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09 National Academy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D71C-9131-4ABF-B5BB-4ED9CB4482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4B16-8C33-499D-9B09-E7AE8301CD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724A-9544-430D-8C90-3ACDDFC0BB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33520" y="4191120"/>
            <a:ext cx="579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6E43-5FAC-4D18-9A45-37E1BB1597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86C3-DB23-46B1-BBC1-50124A7A8C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06B-7A32-4C89-8C7E-74000C60CD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1BED-A40D-49DA-AEF0-8F75CA3062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8BB6-EB3B-4B03-974A-0127660A9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F542-DA13-4ED5-95B2-372695B69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2B0F-A3BF-4A24-AE74-931AB22D9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3F39-ECFE-4460-A58C-78164A980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-7668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B5AC-461A-48B6-B83A-51AB6C0E7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516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944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516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944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B539-298D-45A1-A842-8474C8809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0E94-C677-4003-9BAA-87EFBB9E8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7B8B-ABD8-4AB0-8D26-1B8E0AA54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7668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3602-7B80-4203-8BA3-C4E8D43F6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460C-79C2-421D-AF05-D3D313634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7F0F-365B-43B1-BC3D-5B56D9287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3756-AC42-45B6-8337-1B3385826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1718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b5a9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6561-B428-4D80-8015-800753CC9955}" type="slidenum">
              <a:rPr b="0" lang="en-US" sz="1000" spc="-1" strike="noStrike">
                <a:solidFill>
                  <a:srgbClr val="2b5a9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" descr="PPT footer"/>
          <p:cNvPicPr/>
          <p:nvPr/>
        </p:nvPicPr>
        <p:blipFill>
          <a:blip r:embed="rId2"/>
          <a:stretch/>
        </p:blipFill>
        <p:spPr>
          <a:xfrm>
            <a:off x="0" y="6583320"/>
            <a:ext cx="914400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762120"/>
            <a:ext cx="9144000" cy="218880"/>
          </a:xfrm>
          <a:prstGeom prst="rect">
            <a:avLst/>
          </a:prstGeom>
          <a:gradFill rotWithShape="0">
            <a:gsLst>
              <a:gs pos="0">
                <a:srgbClr val="335c9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PPT footer"/>
          <p:cNvPicPr/>
          <p:nvPr/>
        </p:nvPicPr>
        <p:blipFill>
          <a:blip r:embed="rId2"/>
          <a:stretch/>
        </p:blipFill>
        <p:spPr>
          <a:xfrm>
            <a:off x="0" y="6583320"/>
            <a:ext cx="9144000" cy="274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676520"/>
            <a:ext cx="9144000" cy="777600"/>
          </a:xfrm>
          <a:prstGeom prst="rect">
            <a:avLst/>
          </a:prstGeom>
          <a:gradFill rotWithShape="0">
            <a:gsLst>
              <a:gs pos="0">
                <a:srgbClr val="335c9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c/Dsl_schematic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Unit 5, Lesson 12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Internet Service Provider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62120" y="380880"/>
            <a:ext cx="739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OI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Computer Networking</a:t>
            </a:r>
            <a:endParaRPr b="0" i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680" y="6653160"/>
            <a:ext cx="3557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08–2011 National Academy Foundation. All rights reserved.</a:t>
            </a:r>
            <a:endParaRPr b="0" i="1" lang="en-US" sz="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rnet service providers connect you to the Ne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380880" y="1371600"/>
            <a:ext cx="754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ternet service providers (ISPs) sell you a connection to the Internet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ypes of ISP connections include DSL, cable, satellite, dial-up, and leased line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SPs may also provide free email accounts, web space, or access to local newsgroups.</a:t>
            </a: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152280" y="55627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SL ISPs are usually phone companie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t the customer end, there is a DSL modem and a phone filter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t the ISP end, there is a DSL Access Multiplexer (DSLAM) to receive customer connection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96" name="Picture 9" descr="File:Dsl schematic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666880"/>
            <a:ext cx="7620120" cy="4457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2"/>
          <p:cNvSpPr/>
          <p:nvPr/>
        </p:nvSpPr>
        <p:spPr>
          <a:xfrm>
            <a:off x="4952880" y="5416560"/>
            <a:ext cx="38862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plain what’s happening in this diagram. 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ble ISPs are usually cable TV companie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t the customer end, you install a cable modem that has a USB port, an Ethernet port, or both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ternet information is transported on the same cables that transport cable TV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00" name="Picture 2" descr="http://ikeelliott.typepad.com/photos/uncategorized/2008/03/19/hfc_network_diagram.jpg"/>
          <p:cNvPicPr/>
          <p:nvPr/>
        </p:nvPicPr>
        <p:blipFill>
          <a:blip r:embed="rId1"/>
          <a:stretch/>
        </p:blipFill>
        <p:spPr>
          <a:xfrm>
            <a:off x="3706920" y="3048120"/>
            <a:ext cx="5284800" cy="2798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609480" y="2722680"/>
            <a:ext cx="31244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5a9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ata coming from the Internet to your cable modem uses a 6 MHz channel, just like a single channel of cable TV.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5a9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ata going from your cable modem to the Internet requires just 2 MHz of bandwidth.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tellite ISPs beam to a satellite from a network operations center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ach customer installs an antenna that connects to a small satellite dish. This connects to an indoor unit that connects to a computer using a USB connector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quests for web pages are beamed from the satellite dish to a satellite orbiting Earth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satellite beams the request back to the ISP’s network operations center (NOC)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NOC requests the web page and then beams the page up to the satellite, which in turn beams it back down to the customer’s satellite dish. </a:t>
            </a: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9484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94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94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533520" y="6046920"/>
            <a:ext cx="8305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n you draw a diagram of this transmission procedure? 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ur ISP connects your home to the Interne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086600" y="1371600"/>
            <a:ext cx="1523880" cy="502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495680" y="2895480"/>
            <a:ext cx="21337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 ISP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33520" y="2209680"/>
            <a:ext cx="35049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Picture 8" descr="CLIENT-SERVER-NETWK"/>
          <p:cNvPicPr/>
          <p:nvPr/>
        </p:nvPicPr>
        <p:blipFill>
          <a:blip r:embed="rId1"/>
          <a:stretch/>
        </p:blipFill>
        <p:spPr>
          <a:xfrm>
            <a:off x="990720" y="2666880"/>
            <a:ext cx="2743200" cy="2343240"/>
          </a:xfrm>
          <a:prstGeom prst="rect">
            <a:avLst/>
          </a:prstGeom>
          <a:ln w="0">
            <a:noFill/>
          </a:ln>
        </p:spPr>
      </p:pic>
      <p:sp>
        <p:nvSpPr>
          <p:cNvPr id="110" name="Line 9"/>
          <p:cNvSpPr/>
          <p:nvPr/>
        </p:nvSpPr>
        <p:spPr>
          <a:xfrm>
            <a:off x="2286000" y="1219320"/>
            <a:ext cx="2057400" cy="1143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0384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228240" y="1219320"/>
            <a:ext cx="2133720" cy="1143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647712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Picture 13" descr="Server Image"/>
          <p:cNvPicPr/>
          <p:nvPr/>
        </p:nvPicPr>
        <p:blipFill>
          <a:blip r:embed="rId2"/>
          <a:stretch/>
        </p:blipFill>
        <p:spPr>
          <a:xfrm>
            <a:off x="4876920" y="3657600"/>
            <a:ext cx="1352520" cy="14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Server Image"/>
          <p:cNvPicPr/>
          <p:nvPr/>
        </p:nvPicPr>
        <p:blipFill>
          <a:blip r:embed="rId3"/>
          <a:stretch/>
        </p:blipFill>
        <p:spPr>
          <a:xfrm>
            <a:off x="7162920" y="2590920"/>
            <a:ext cx="1352520" cy="145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335112"/>
          <p:cNvPicPr/>
          <p:nvPr/>
        </p:nvPicPr>
        <p:blipFill>
          <a:blip r:embed="rId4"/>
          <a:stretch/>
        </p:blipFill>
        <p:spPr>
          <a:xfrm>
            <a:off x="7315200" y="51814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1601640" y="1752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House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 flipH="1">
            <a:off x="7772040" y="43434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57200" y="5634000"/>
            <a:ext cx="6248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at do you call a large network that connects many smaller local area networks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7:08:03Z</dcterms:created>
  <dc:creator>arothstein</dc:creator>
  <dc:description/>
  <dc:language>en-US</dc:language>
  <cp:lastModifiedBy>cynth</cp:lastModifiedBy>
  <dcterms:modified xsi:type="dcterms:W3CDTF">2011-06-01T17:35:12Z</dcterms:modified>
  <cp:revision>434</cp:revision>
  <dc:subject/>
  <dc:title>Slide 1</dc:title>
</cp:coreProperties>
</file>